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F0A-112F-43E0-9240-7029122D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DED-1F5B-4AA0-9A0F-3C8CB080B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62E-0E64-4830-9418-F90F688F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7F0-A82D-4164-BC76-59BE343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357-69DB-4B63-8129-B3DBE104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329-AF92-4E8C-B646-FB51C587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BDB-965E-410A-92F3-1005EAB2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9DE-E218-4B47-B852-32281D3D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3D3-EBA5-44FD-90F7-0F81967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07F-12AF-4BD9-8DE5-DCD3FDB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16F-A062-4709-8BE6-C9BBFDD0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223-3517-44D8-8662-68136CC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F92-0877-4451-AD03-ABEAD7DF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0F2-49D0-4D25-BAE8-D1E669CB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0C1-6505-4004-AEA2-C393A157D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HRINKAGE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MIPARAMETRIC DENSTIY ESTIM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hamed Amezzi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Pau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mail: mamezzia@depaul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rinkage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80880" y="1905120"/>
                <a:ext cx="837432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: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π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t xml:space="preserve">0,1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fully known density fun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 nonparametric estimator of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Risk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533520" y="1828800"/>
                <a:ext cx="62481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-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" name="Picture 4" descr=""/>
          <p:cNvPicPr/>
          <p:nvPr/>
        </p:nvPicPr>
        <p:blipFill>
          <a:blip r:embed="rId1"/>
          <a:srcRect l="0" t="0" r="12197" b="53032"/>
          <a:stretch/>
        </p:blipFill>
        <p:spPr>
          <a:xfrm>
            <a:off x="457200" y="3809880"/>
            <a:ext cx="86868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T and SPT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932040" y="1581120"/>
                <a:ext cx="7754760" cy="500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preliminary tes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rinkage preliminar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s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stimators:</m:t>
                        </m:r>
                      </m:e>
                      <m:e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P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testing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corresponding critical 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T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551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4952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Los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04920" y="3111480"/>
                <a:ext cx="441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ing the ISE with respect to </m:t>
                    </m:r>
                    <m:r>
                      <m:t xml:space="preserve">π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28600" y="1600200"/>
                <a:ext cx="1576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ISE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6760" y="2057400"/>
            <a:ext cx="8877240" cy="8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191120" cy="156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67122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1066680" y="6172200"/>
            <a:ext cx="4977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ymptotic Optim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19320" y="3686040"/>
            <a:ext cx="495288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543800" cy="10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304920" y="2133720"/>
                <a:ext cx="8153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estimating the non-stochastic part of 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, we obtai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fully data-based estimator of </m:t>
                        </m:r>
                        <m:r>
                          <m:t xml:space="preserve">f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ymptotic Optim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886200" y="1533600"/>
            <a:ext cx="5257800" cy="4029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114800" y="5334120"/>
            <a:ext cx="525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xplots f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= 0.01, 0.1, 0.2, 0.3, 0.4,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339840" y="2209680"/>
                <a:ext cx="39956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,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</m:t>
                        </m:r>
                      </m:e>
                      <m:e>
                        <m:r>
                          <m:t xml:space="preserve">n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π</m:t>
                            </m:r>
                            <m:r>
                              <m:t xml:space="preserve">=</m:t>
                            </m:r>
                            <m:r>
                              <m:t xml:space="preserve">π</m:t>
                            </m:r>
                            <m:r>
                              <m:t xml:space="preserve">d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,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A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ness-Of-Fi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795240" y="1566720"/>
                <a:ext cx="7520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: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: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Δ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where       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ull Distribution: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A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2:06:52Z</dcterms:created>
  <dc:creator>math</dc:creator>
  <dc:description/>
  <dc:language>en-US</dc:language>
  <cp:lastModifiedBy>SmoothNoise</cp:lastModifiedBy>
  <dcterms:modified xsi:type="dcterms:W3CDTF">2009-05-15T12:01:25Z</dcterms:modified>
  <cp:revision>74</cp:revision>
  <dc:subject/>
  <dc:title>SHRINKAGE-BASED  SEMIPARAMETRIC DENSTIY ESTIMATION</dc:title>
</cp:coreProperties>
</file>